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2691-F8D2-4DE2-9DDD-C55B82B4D916}" type="datetime">
              <a:rPr b="0" lang="sl-SI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0577-55A5-4C25-A58E-AAF1FAC6798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tistična izbira vzor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OU: odprto priporočilo NADOMEŠČENO z 29 priporočili horizontalne revizije ISAR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ŠŠ: ni še bilo naknadne revizije. Priporočila: Opis sistema ni v celoti usklajen, problemi pri javnih razpis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VZT: 1 priporočilo DELNO IZPOLNJENO (izvajanje kontrol nalog, prenesenih na agenta (TIA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G: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ločenost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funkcij pri agentu JAPTI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pomanjkljiv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evidenc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administrativnih kontrol (evidenca ne vsebujejo  podatkov o opravljenem delu in datumu, osebah, ki so izvedle preverjanje, rezultatih preverjanj in sprejetih ukrepih)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kontrole na kraju samem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(sami izvedli eno za OP RČV, z OU pa še se niso dokončno dogovoril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DDS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195-840F-4FCE-BCAE-0C1F2E81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874-A265-4892-B504-4428469E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F8F-4BB7-4CF7-ABCF-DE9323E8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6E8-EFED-42EC-A1BF-1A09140B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DED-C600-4193-B21A-F02C93CA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10A-01A1-44C9-8C69-F0E0093F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665-25AB-4602-8157-D88C8976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7A4-DF81-4535-B625-5ABF34A5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C02-E5BE-4F2F-B7F0-A3810D48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769-1155-47AB-B506-20A50B1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784-2F58-4B3A-A5F5-DDF96247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2D8-C2F3-42C5-9C30-4111D3E8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66F7-8240-4DF7-8A20-E4990A495E4E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8E3D-E426-486E-AACD-BBFD3356B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 RR in OP ROPI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če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2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 2014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13C6-6BB5-4B09-BCC9-F89E8CD23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C05D-0CDD-4FD7-BA3A-35F0BD48D1E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8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B4A9-B858-42DF-BC34-B9737EF7A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73B0-52E8-473D-AB67-A353A837CCA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8d8d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d8d8d8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E035-AB5A-4427-B12B-02B5661FA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Content Placeholder 20"/>
          <p:cNvSpPr/>
          <p:nvPr/>
        </p:nvSpPr>
        <p:spPr>
          <a:xfrm>
            <a:off x="684360" y="1628640"/>
            <a:ext cx="80499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1C16-3F11-45BA-9A3D-496C2417A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00200" y="1523880"/>
          <a:ext cx="7975440" cy="4438800"/>
        </p:xfrm>
        <a:graphic>
          <a:graphicData uri="http://schemas.openxmlformats.org/drawingml/2006/table">
            <a:tbl>
              <a:tblPr/>
              <a:tblGrid>
                <a:gridCol w="3728880"/>
                <a:gridCol w="860400"/>
                <a:gridCol w="1490760"/>
                <a:gridCol w="18954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ilo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ni delež gled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vrednost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ni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upravičen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atk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0.42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šena določila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JN-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9.86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operacij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74.69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izvajal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ovezane osebe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4.16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strez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ši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ržavne pomoč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.00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40000" y="620640"/>
            <a:ext cx="63468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h 6 operacij na PU “dvig konkurenčnosti turističnega gospodarstva”, od tega napake pri 5 (napaka opredeljena kot sistemska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predlagal 5 % pavšalno finančno korekcijo za PU zaradi napak pri izbor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.774.692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OP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 2 operaciji na PU “lokalna energetska oskrba” (obe neupravičeni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izvedel preglede na vseh ostalih operacijah na P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.934.168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E954C-6CFC-44DE-8413-24214DFF2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DNOTENJE NAPAK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989000"/>
          <a:ext cx="8208720" cy="4140360"/>
        </p:xfrm>
        <a:graphic>
          <a:graphicData uri="http://schemas.openxmlformats.org/drawingml/2006/table">
            <a:tbl>
              <a:tblPr/>
              <a:tblGrid>
                <a:gridCol w="6200640"/>
                <a:gridCol w="20080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is napak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EUR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icirana (ekstrapolirana) vrednost </a:t>
                      </a:r>
                      <a:r>
                        <a:rPr b="1" i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ljučnih napak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35.54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jemne napake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tična napaka (v in 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8.86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ane napake (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75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ajbolj verjetna napaka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GB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Most Likely Error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%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od potrjenih izdatkov leta 201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3646-3054-439D-8A54-2E4C02BFA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Content Placeholder 20"/>
          <p:cNvSpPr/>
          <p:nvPr/>
        </p:nvSpPr>
        <p:spPr>
          <a:xfrm>
            <a:off x="395280" y="1619280"/>
            <a:ext cx="8497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RJAVA NAPAK Z DOPUSTNO NAPAKO (2%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NAJBOLJ VERJETNA NAPAKA &gt; DOPUSTNA NAPAKA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NENJE S PRIDRŽKOM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2333520"/>
          <a:ext cx="8137440" cy="2171880"/>
        </p:xfrm>
        <a:graphic>
          <a:graphicData uri="http://schemas.openxmlformats.org/drawingml/2006/table">
            <a:tbl>
              <a:tblPr/>
              <a:tblGrid>
                <a:gridCol w="3944160"/>
                <a:gridCol w="1842840"/>
                <a:gridCol w="235044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aka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na vrednost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totek od celotne populacije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ejemljiva (dopustna) napaka 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erable Misstatement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na najbolj verjetna napaka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(MLE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 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2208-91D4-4AAF-8DF2-ACD7AA678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3E43-A7E4-4A3B-BC69-5C679B76BB8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631800" indent="0">
              <a:spcBef>
                <a:spcPts val="601"/>
              </a:spcBef>
              <a:buNone/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068640"/>
          <a:ext cx="8002440" cy="2684160"/>
        </p:xfrm>
        <a:graphic>
          <a:graphicData uri="http://schemas.openxmlformats.org/drawingml/2006/table">
            <a:tbl>
              <a:tblPr/>
              <a:tblGrid>
                <a:gridCol w="1330200"/>
                <a:gridCol w="1849320"/>
                <a:gridCol w="1835280"/>
                <a:gridCol w="1468440"/>
                <a:gridCol w="1519200"/>
              </a:tblGrid>
              <a:tr h="8514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3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OP RČV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8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57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4DF0-FA9A-468D-814C-C219D7EB7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B670-5886-42D4-AE6E-BF24A34F8FF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E66C-7C84-41C0-8BE8-18B4DDFB53F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snutek revizijskega poročila E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9.1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slovenska verzija  19.3.2014 )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ostopek ustavitve plačil:                       6.3.20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dgovor RO, PO in PT MIZŠ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4.2014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angleška verzija    5.5.2014 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258B-1BEE-4941-80A7-61306BE7A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0C19-D9ED-4C80-A9FE-181605CDD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v l. 201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16 OP RČV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 Sloveniji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upravljalna preverjanj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0035-B9A4-4D77-9BB8-8EAA811B9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4000" y="701640"/>
            <a:ext cx="67788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00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4DFD-6710-4BC9-AB05-67821EA24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 u="sng">
                <a:solidFill>
                  <a:srgbClr val="0000ff"/>
                </a:solidFill>
                <a:uFillTx/>
                <a:latin typeface="Calibri"/>
              </a:rPr>
              <a:t>Izvedene sistemske revizije do maja 2014</a:t>
            </a:r>
            <a:r>
              <a:rPr b="1" lang="sl-SI" sz="21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upravljanja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jul. 2009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feb 2013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za potrjevanje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MVZT – OP RR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SVLR – OP RR (nov. 2009) 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R (mar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OPI (feb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(feb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R (mar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I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(jan. 2013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KO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OP ROPI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(dec. 2013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GRT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OP RR (feb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IZŠ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 OP RR (apr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682A-162F-4F52-8F4D-AF9A877B0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aknadn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revizije sistema in pregledi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polnjevanja priporoči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do maja 2014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OU (mar. 201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ff"/>
                </a:solidFill>
                <a:latin typeface="Arial"/>
              </a:rPr>
              <a:t>jan. 2014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VZT (mar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O (jul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SVLR (okt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RT (dec. 2012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zP oz. MzIP (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1CC2-7455-4855-9C73-3A73CC6CB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izdanih PRIPOROČIL iz revizij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OROČIL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GRT (OP RR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8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KO (OP ROPI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5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Š (OP RR)                                         3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 (OP RR, OP ROPI in OP RČV)              1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9384B-DB10-497F-BF9D-4219587CD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2241720" indent="-457200">
              <a:spcBef>
                <a:spcPts val="6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96840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56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87D61-2F0A-4B97-838F-0493CD214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95280"/>
            <a:ext cx="8136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9335-679A-4BA7-87CB-C55C5A4FE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ABF1-A5CA-4664-A37E-754E9D3A95C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26E3-6EAD-4243-BE6D-A73FDEA12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19T12:46:30Z</dcterms:modified>
  <cp:revision>62</cp:revision>
  <dc:subject/>
  <dc:title>Slide 1</dc:title>
</cp:coreProperties>
</file>